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733-87ED-45EB-AFDD-6DDF3972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4B2-83A1-426E-8EAB-1D81E53A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C2E-189F-4A48-BD8E-81248986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AA5-610E-4180-A106-57474A8B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E50-3327-43C6-936E-60AF2FCC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297-FC20-4E7F-80AF-488A8440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93B-9764-4742-BC2A-968FB434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CA6-FF81-4B17-B3D3-E33A72D9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331-6AFB-4F05-877D-71832CA0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F16-A895-41AA-B3C8-8EF562FF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D6B-C738-408A-A4F7-F6875641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BB0-C99B-4B99-B843-D9003073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277-6BED-403D-9D21-F938A1EBF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095560" y="-2286000"/>
            <a:ext cx="13335120" cy="1143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48360" y="-1395360"/>
            <a:ext cx="4390920" cy="43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380360" y="37162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835280" y="2852640"/>
            <a:ext cx="1412640" cy="243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835280" y="-365040"/>
            <a:ext cx="2232000" cy="152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12400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24000" y="5013360"/>
            <a:ext cx="273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36 0.08489 L 0.29288 0.1374 E"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0.0421 L -0.29132 0.0421 E"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4173E-006 C 0.06824 0.00763 0.13646 0.01526 0.17414 0.04418 C 0.21181 0.07286 0.20192 0.15753 0.22587 0.17441 C 0.24983 0.19107 0.29532 0.13393 0.31771 0.14596 C 0.34011 0.15845 0.33438 0.23941 0.36008 0.24797 C 0.38577 0.2563 0.43178 0.18737 0.47188 0.19593 C 0.51199 0.20472 0.56285 0.33426 0.60122 0.30118 C 0.63959 0.26787 0.69428 0.06662 0.70244 -0.0044 C 0.7106 -0.07565 0.6764 -0.09485 0.6507 -0.12677 C 0.62501 -0.15869 0.60278 -0.18529 0.54827 -0.1957 C 0.49376 -0.20611 0.39428 -0.19061 0.32362 -0.18946 C 0.25296 -0.1883 0.20903 -0.21837 0.12466 -0.18946 C 0.04028 -0.16054 -0.13038 -0.04234 -0.18229 -0.01527 C -0.2342 0.01156 -0.21058 -0.00833 -0.18697 -0.02822 E">
                                      <p:cBhvr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113E-008 C -0.07726 0.01989 -0.15451 0.03978 -0.18715 0.05505 C -0.21979 0.07032 -0.20122 0.07726 -0.19531 0.0909 C -0.18941 0.10455 -0.16059 0.1182 -0.15191 0.13648 C -0.14323 0.15475 -0.14184 0.18875 -0.14358 0.20078 C -0.14531 0.21281 -0.15764 0.20286 -0.1625 0.20865 C -0.16736 0.21443 -0.17205 0.22646 -0.17309 0.23525 C -0.17413 0.24404 -0.17101 0.25445 -0.16823 0.26185 C -0.16545 0.26925 -0.16111 0.27411 -0.1566 0.2792 E">
                                      <p:cBhvr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3959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0.05112 L 0.33663 0.05112 E">
                                      <p:cBhvr>
                                        <p:cTn id="30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7:06:46Z</dcterms:created>
  <dc:creator>студент</dc:creator>
  <dc:description/>
  <dc:language>en-US</dc:language>
  <cp:lastModifiedBy>студент</cp:lastModifiedBy>
  <dcterms:modified xsi:type="dcterms:W3CDTF">2012-10-11T07:26:36Z</dcterms:modified>
  <cp:revision>2</cp:revision>
  <dc:subject/>
  <dc:title>Слайд 1</dc:title>
</cp:coreProperties>
</file>